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352-FC82-4219-BDF6-21D11B6B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v.physicslab.org/Document.aspx?doctype=3&amp;filename=WavesSound_IntroductionWave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658-1AC0-44B0-B09A-7094CEA534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6D5-E5CE-43FA-9871-0647F16C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B78-B10E-418F-9044-02A5F80D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8B2-E7F9-42D3-ADF6-19B54456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B46-F0D6-4049-8DA6-5CC0E7FC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C8B-7206-4D96-814D-853B3648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6A7-4D26-4A73-B53F-FCE2751B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B8A-A62B-4484-BFB0-B6D4A93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46B-F42B-462A-A534-8858627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2EB-B862-4D81-9EA3-E1F0CF71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3CE-A6EB-4F7D-9889-408CA4C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283-EEDD-418B-A89C-964FE6C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6E8-2239-49D6-9F4A-AAFB5E6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6AB0-215D-4D01-ACE3-2E42168A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Worksheets/Waves%20Review.ppt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Projects/Mousetrap%20Racer/Moustrap%20Project%20Introduction.ppt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hazelwood.k12.mo.us/~grichert/sciweb/waves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d.mind.net/~zona/mstm/physics/waves/transLongWaves/transAndLongWavesHome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20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6668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ves Lab, Website, and Textb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3282" t="14584" r="14844" b="12502"/>
          <a:stretch/>
        </p:blipFill>
        <p:spPr>
          <a:xfrm>
            <a:off x="304920" y="228600"/>
            <a:ext cx="838188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3282" t="15627" r="14844" b="12502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/>
          <a:srcRect l="16876" t="17998" r="18125" b="17001"/>
          <a:stretch/>
        </p:blipFill>
        <p:spPr>
          <a:xfrm>
            <a:off x="609480" y="1447920"/>
            <a:ext cx="792504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28600" y="15228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en Notes/Handou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ve Assess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Project – 5/21-6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38280"/>
            <a:ext cx="8001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04840" y="5638680"/>
            <a:ext cx="697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setr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440" y="222660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usetrap Intro Worksh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 Points and Ticket to Class Tomorrow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500" t="13000" r="11874" b="10000"/>
          <a:stretch/>
        </p:blipFill>
        <p:spPr>
          <a:xfrm>
            <a:off x="152280" y="152280"/>
            <a:ext cx="8763120" cy="557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33520" y="579132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UE TOMORROW...3 POINTS ! !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waves carry from place to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Energy &amp;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Energy or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04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990720" y="1295280"/>
            <a:ext cx="7238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t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Wa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54400"/>
            <a:ext cx="3200400" cy="262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79200"/>
            <a:ext cx="2895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86400" y="13500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320" y="76320"/>
            <a:ext cx="5333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atomy of a Wa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266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352680"/>
            <a:ext cx="914400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 VOCABULARY:  Write a short definition of each term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veleng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equ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733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ighest point of a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3578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west point of a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tance between center of wave and crest…how much energy is car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4547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stance a wave travels in one cycle…measured from crest to crests or trough to t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6095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umber of waves past a given point in one second…measured in waves per second or hert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259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6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ONS:  Use the points on the waveform graph below to answer the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19520"/>
            <a:ext cx="914400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oints are located at the crest of the wave? 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oints are located at a trough? 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started at point E and traveled one wavelength, where would you end?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started at point D and traveled one wavelength, where would you end? 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 find the amplitude of this wave? 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7860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ore fun information about waves check out the following webs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azelwood.k12.mo.us/~grichert/sciweb/wav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, E,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367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, H, and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3900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4572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51814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asure the distance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nter line of the wave to either point A, E, or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Anatomy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Slinky Demonstratio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 Review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 Racer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 Intro Worksheet (3 Points &amp; Ticket to Class Tomorrow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aves carry from place to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483F509D-87B2-485D-896A-FC84F3C67D7F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difference between the types of waves that carry sound and l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waves transport energy from place to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76320"/>
            <a:ext cx="7467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monstration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linky Spring Wav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883944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477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id.mind.net/~zona/mstm/physics/waves/transLongWaves/transAndLongWavesHom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867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2:02:47Z</dcterms:created>
  <dc:creator>krmihal</dc:creator>
  <dc:description/>
  <dc:language>en-US</dc:language>
  <cp:lastModifiedBy>krmihal</cp:lastModifiedBy>
  <dcterms:modified xsi:type="dcterms:W3CDTF">2010-05-20T12:03:13Z</dcterms:modified>
  <cp:revision>1</cp:revision>
  <dc:subject/>
  <dc:title>Slide 1</dc:title>
</cp:coreProperties>
</file>